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3C585-F0CA-41CA-B006-9CE149540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86825-F7D1-4C01-9ED7-370281534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11C20-1C63-4A1E-9C3A-DE1DD388D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81B3D-05C4-4EE1-B815-F8DE2A3A4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0E52C-41C1-498F-B9B7-27533F36E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402C3-EAEF-48E6-85C2-FE5425F37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5B095-6D91-43E6-AC28-51265BB4F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BBE38-1BAF-4E6C-943F-5ED27DE92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50DBE-C51E-46E8-ACAE-7402AD627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C3456-F234-4E1E-90FA-0B0EDF258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D534B-FB3D-4781-90DC-4776681B3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7DF2D-12E7-451E-A325-FD9389205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86C79-D432-4A95-BAA7-F994DE9F37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PROCESE PSIHICE COGNITIVE SUPERIOARE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GÂNDIREA</a:t>
            </a:r>
            <a:r>
              <a:rPr b="1" lang="ro-RO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09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Manualul de </a:t>
            </a:r>
            <a:r>
              <a:rPr b="0" i="1" lang="en-GB" sz="1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sihologie, clasa a X-a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, Elena Lupşa, Victor Bratu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457200" y="228600"/>
            <a:ext cx="8001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2670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ândirea este nivelul cel mai înalt de prelucrare şi integrare a informaţiei despre lumea externă şi despre noi înşine. Prin ea se realizează saltul calitativ al activităţii de cunoaştere de la particular, accidental la general, esenţial, necesar, de la simpla constatare a obiectului la interpretarea şi explicarea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ui legic-cauzal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ândirea este procesul psihic de reflectare mijlocită şi generalizat-abstractă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sub forma noţiunilor, judecăţilor şi raţionamentelor - a însuşirilor comune, esenţiale şi necesare ale obiectelor şi a relaţiilor legice, cauzale dintre e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racterul mijlocit al gândirii constă în aceea că ea nu operează direct asupra realităţii, ci asupra informaţiei furnizate de percepţii şi de reprezentări. Desfăşurarea ei presupune totdeauna fie o informaţie care se extrage, în prezent, în cadrul contactului senzorial cu obiectul, fie o informaţie extrasă din tezaurul memorie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racterul general-abstract al gândirii rezultă din aceea că ea se desfăşoară permanent în direcţia evidenţierii însuşirilor generale şi esenţiale ale obiectelor şi fenomenelor şi a subordonării unor modele ideale generale (noţiuni, principii, legi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ândirea este capacitatea de a rezolva probleme. În această accepţiune, gândirea se apropie de inteligenţă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12" descr="comp_i"/>
          <p:cNvPicPr/>
          <p:nvPr/>
        </p:nvPicPr>
        <p:blipFill>
          <a:blip r:embed="rId1"/>
          <a:stretch/>
        </p:blipFill>
        <p:spPr>
          <a:xfrm>
            <a:off x="5072040" y="2266920"/>
            <a:ext cx="3191040" cy="31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sihologul american, J. P. Guilford, a propus un model larg acceptat al structurii gândirii, format din trei component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Operaţ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evalua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ândire convergentă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ândire divergentă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memorie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gniţie sau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unoaşt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nţinutur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mportamental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emantic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imbolic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figura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od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unităţ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las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relaţi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istem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transformăr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mplicaţi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NEE</dc:creator>
  <dc:description/>
  <dc:language>en-US</dc:language>
  <cp:lastModifiedBy>Guest</cp:lastModifiedBy>
  <dcterms:modified xsi:type="dcterms:W3CDTF">2012-06-18T13:34:23Z</dcterms:modified>
  <cp:revision>22</cp:revision>
  <dc:subject/>
  <dc:title>PROCESE PSIHICE COGNITIVE SUPERIOARE - GÂNDIREA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